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: 圆角 1"/>
          <p:cNvSpPr/>
          <p:nvPr/>
        </p:nvSpPr>
        <p:spPr>
          <a:xfrm>
            <a:off x="1692360" y="2197080"/>
            <a:ext cx="676728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f9fc">
                  <a:alpha val="20000"/>
                </a:srgbClr>
              </a:gs>
              <a:gs pos="100000">
                <a:srgbClr val="ffffff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副标题 2"/>
          <p:cNvSpPr/>
          <p:nvPr/>
        </p:nvSpPr>
        <p:spPr>
          <a:xfrm>
            <a:off x="3287880" y="3081240"/>
            <a:ext cx="3676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2195640" y="2284560"/>
            <a:ext cx="59547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语交际  请你帮个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14"/>
          <p:cNvSpPr/>
          <p:nvPr/>
        </p:nvSpPr>
        <p:spPr>
          <a:xfrm>
            <a:off x="2173320" y="30351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971640" y="987480"/>
            <a:ext cx="7408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一评：小组派代表上台表演，师生共同评议。老师总结请人帮助该怎样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2916360" y="2284560"/>
            <a:ext cx="3024000" cy="26082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452520" y="412920"/>
            <a:ext cx="25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交际示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611280" y="890640"/>
            <a:ext cx="7942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师：同学们，有时候我们需要别人的帮助，这个时候我们一定要使用礼貌用语，而且声音要大，吐词清晰，内容表达完整，现在大家来演练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2268360" y="2408400"/>
            <a:ext cx="442764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617400" y="814320"/>
            <a:ext cx="7942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贝贝：如果我有困难需要别人帮忙，我会寻求比我大的哥哥、姐姐、叔叔阿姨的帮助。但是我也会询问他们是否有空，根据他们的具体情况来决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tretch/>
        </p:blipFill>
        <p:spPr>
          <a:xfrm>
            <a:off x="2374920" y="2322360"/>
            <a:ext cx="4427640" cy="25401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617400" y="776160"/>
            <a:ext cx="7942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丽丽：如果我要向同学借学习用品，我会先说明情况，然后征求别人的意见，而且说话时会用询问的语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3" descr=""/>
          <p:cNvPicPr/>
          <p:nvPr/>
        </p:nvPicPr>
        <p:blipFill>
          <a:blip r:embed="rId1"/>
          <a:stretch/>
        </p:blipFill>
        <p:spPr>
          <a:xfrm>
            <a:off x="2292480" y="2162160"/>
            <a:ext cx="4427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617400" y="804960"/>
            <a:ext cx="7942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珂珂：我如果要问路，就会很有礼貌地先叫住别人，然后打招呼，把要去的地名说清楚，并且用上“请问、谢谢”等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2374920" y="2265480"/>
            <a:ext cx="44276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"/>
          <p:cNvGrpSpPr/>
          <p:nvPr/>
        </p:nvGrpSpPr>
        <p:grpSpPr>
          <a:xfrm>
            <a:off x="392040" y="84240"/>
            <a:ext cx="2718000" cy="1003320"/>
            <a:chOff x="392040" y="84240"/>
            <a:chExt cx="2718000" cy="1003320"/>
          </a:xfrm>
        </p:grpSpPr>
        <p:grpSp>
          <p:nvGrpSpPr>
            <p:cNvPr id="78" name="组合 3"/>
            <p:cNvGrpSpPr/>
            <p:nvPr/>
          </p:nvGrpSpPr>
          <p:grpSpPr>
            <a:xfrm>
              <a:off x="888480" y="511200"/>
              <a:ext cx="2221560" cy="545040"/>
              <a:chOff x="888480" y="511200"/>
              <a:chExt cx="2221560" cy="545040"/>
            </a:xfrm>
          </p:grpSpPr>
          <p:pic>
            <p:nvPicPr>
              <p:cNvPr id="7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320" y="55404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文本框 2"/>
              <p:cNvSpPr/>
              <p:nvPr/>
            </p:nvSpPr>
            <p:spPr>
              <a:xfrm>
                <a:off x="888480" y="51120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活动导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文本框 1"/>
          <p:cNvSpPr/>
          <p:nvPr/>
        </p:nvSpPr>
        <p:spPr>
          <a:xfrm>
            <a:off x="1009800" y="1708200"/>
            <a:ext cx="741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学们，在生活中，谁都会遇到这样那样的困难，人与人之间离不开互相帮助。我们本次口语交际活动的主题就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请你帮个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861840" y="905040"/>
            <a:ext cx="3256200" cy="3412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"/>
          <p:cNvPicPr/>
          <p:nvPr/>
        </p:nvPicPr>
        <p:blipFill>
          <a:blip r:embed="rId2"/>
          <a:stretch/>
        </p:blipFill>
        <p:spPr>
          <a:xfrm>
            <a:off x="4859280" y="1389240"/>
            <a:ext cx="3468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755640" y="1347840"/>
            <a:ext cx="3533760" cy="2793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"/>
          <p:cNvPicPr/>
          <p:nvPr/>
        </p:nvPicPr>
        <p:blipFill>
          <a:blip r:embed="rId2"/>
          <a:stretch/>
        </p:blipFill>
        <p:spPr>
          <a:xfrm>
            <a:off x="4373640" y="1440000"/>
            <a:ext cx="436716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826920" y="1779480"/>
            <a:ext cx="7705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际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时候我们需要别人的帮助，比如问路、借东西等，今天就让我们一起来表演请人帮忙的场景。注意使用文明用语，如：请、请问、您、您好、谢谢、不客气，等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492360" y="1087560"/>
            <a:ext cx="26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你帮个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392040" y="84240"/>
            <a:ext cx="2718000" cy="1003320"/>
            <a:chOff x="392040" y="84240"/>
            <a:chExt cx="2718000" cy="1003320"/>
          </a:xfrm>
        </p:grpSpPr>
        <p:grpSp>
          <p:nvGrpSpPr>
            <p:cNvPr id="91" name="组合 3"/>
            <p:cNvGrpSpPr/>
            <p:nvPr/>
          </p:nvGrpSpPr>
          <p:grpSpPr>
            <a:xfrm>
              <a:off x="888480" y="511200"/>
              <a:ext cx="2221560" cy="545040"/>
              <a:chOff x="888480" y="511200"/>
              <a:chExt cx="2221560" cy="5450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320" y="55404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2"/>
              <p:cNvSpPr/>
              <p:nvPr/>
            </p:nvSpPr>
            <p:spPr>
              <a:xfrm>
                <a:off x="888480" y="51120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口语交际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4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971640" y="771480"/>
            <a:ext cx="7408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际指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自己需要帮助时，该怎样向别人求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473200" y="2741760"/>
            <a:ext cx="2757600" cy="372888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5076720" y="2741760"/>
            <a:ext cx="302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问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怎么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971640" y="1492200"/>
            <a:ext cx="7408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演一演：小组内模拟请人帮忙的场景，请求帮助的人说话要有礼貌，注意使用“请您、谢谢”等文明用语，说话吐词清晰，表达意思要准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755640" y="1563840"/>
            <a:ext cx="3592440" cy="2293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" descr=""/>
          <p:cNvPicPr/>
          <p:nvPr/>
        </p:nvPicPr>
        <p:blipFill>
          <a:blip r:embed="rId2"/>
          <a:stretch/>
        </p:blipFill>
        <p:spPr>
          <a:xfrm>
            <a:off x="4857840" y="1584360"/>
            <a:ext cx="3233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971640" y="987480"/>
            <a:ext cx="2730240" cy="345744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8"/>
          <p:cNvGrpSpPr/>
          <p:nvPr/>
        </p:nvGrpSpPr>
        <p:grpSpPr>
          <a:xfrm>
            <a:off x="3995640" y="1327320"/>
            <a:ext cx="4451400" cy="2869920"/>
            <a:chOff x="3995640" y="1327320"/>
            <a:chExt cx="4451400" cy="2869920"/>
          </a:xfrm>
        </p:grpSpPr>
        <p:pic>
          <p:nvPicPr>
            <p:cNvPr id="103" name="图片 2" descr=""/>
            <p:cNvPicPr/>
            <p:nvPr/>
          </p:nvPicPr>
          <p:blipFill>
            <a:blip r:embed="rId2"/>
            <a:stretch/>
          </p:blipFill>
          <p:spPr>
            <a:xfrm>
              <a:off x="3995640" y="1327320"/>
              <a:ext cx="4451400" cy="28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对话气泡: 椭圆形 7"/>
            <p:cNvSpPr/>
            <p:nvPr/>
          </p:nvSpPr>
          <p:spPr>
            <a:xfrm>
              <a:off x="4716360" y="2050920"/>
              <a:ext cx="1295280" cy="720720"/>
            </a:xfrm>
            <a:prstGeom prst="wedgeEllipseCallout">
              <a:avLst>
                <a:gd name="adj1" fmla="val 40962"/>
                <a:gd name="adj2" fmla="val 66208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谢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jiaoshiziliao.com</dc:creator>
  <dc:description/>
  <dc:language>en-US</dc:language>
  <cp:lastModifiedBy>大米饭＇Ms.Li</cp:lastModifiedBy>
  <dcterms:modified xsi:type="dcterms:W3CDTF">2018-02-09T16:04:44Z</dcterms:modified>
  <cp:revision>1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